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click.wav" ContentType="audio/x-wav"/>
  <Override PartName="/ppt/media/image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1321-BF28-402C-BD33-C3F50D1D57E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4C57-A8BF-4E0C-82C8-2EB84101FB7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7941-46A2-497E-824D-420B9340504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37E-197F-4999-9610-F7945157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218-2F70-44E7-A25B-B342C0C3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1E6-073E-4254-8D90-AA8B6C01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E92-1081-42C5-B5AF-20B86BEE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C801-1511-4F5F-8D17-893F4786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C942-B64A-4316-B534-6C84AC29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0166-1D40-4D58-A24E-2D849EDA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600C-F24B-437E-9E52-CB3EBCCA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CB07-2F36-4EF4-9248-57E16258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91A1-D9E7-43F6-8047-430F896A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8BDD-BC35-4F6D-8233-FB55DE31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12A-1A84-48AC-9625-F922AD22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614C-B31B-4D8E-8F4C-B2964157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10F3-55C7-40DE-969F-76598B6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6A1E-4846-405B-AA0F-8F44DDE5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FB95-846D-4C06-8773-ED895733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A014-746E-4B9A-B383-377F123D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821-D062-4FD7-B362-68A2D387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C2D-A927-4208-8440-C34EA8F5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E83-2315-495C-8F33-80230F2B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BB5-1DD9-47E9-9DA5-0A3A9E89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36A-48BD-4649-BCD8-DDDDB8F8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432-EE3B-4476-86C9-BAE99213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F2A-8EE7-487E-8770-11D5AB72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pu.ac.kr/kpuhome/main.jsp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pu.ac.kr/kpuhome/main.jsp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BF54-1CE4-411E-B7F3-B25712BAA488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DFC8-10EC-4E2B-9A57-4FDB90E8740A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logo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86600" y="6477120"/>
            <a:ext cx="2057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7240" y="1676520"/>
            <a:ext cx="8456760" cy="12189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0F9F-BF63-43E2-B1C7-9F45565BD0BE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3200400"/>
            <a:ext cx="472464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logo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86600" y="6477120"/>
            <a:ext cx="205740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971800" y="49525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ff66"/>
                </a:solidFill>
                <a:latin typeface="Times New Roman"/>
                <a:ea typeface="굴림"/>
              </a:rPr>
              <a:t>강 승 진</a:t>
            </a:r>
            <a:r>
              <a:rPr b="1" lang="ja-JP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562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b2b2b2"/>
                </a:solidFill>
                <a:latin typeface="Times New Roman"/>
                <a:ea typeface="굴림"/>
              </a:rPr>
              <a:t>한국산업기술대학교  에너지대학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76520"/>
            <a:ext cx="7848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cbcbcb"/>
                </a:solidFill>
                <a:latin typeface="Times New Roman"/>
                <a:ea typeface="굴림"/>
              </a:rPr>
              <a:t>교토의정서 발효와 우리의 대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657600"/>
            <a:ext cx="5562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b2b2b2"/>
                </a:solidFill>
                <a:latin typeface="Times New Roman"/>
                <a:ea typeface="굴림"/>
              </a:rPr>
              <a:t>녹색연합 기후변화 토론회 자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b2b2b2"/>
                </a:solidFill>
                <a:latin typeface="Times New Roman"/>
              </a:rPr>
              <a:t>2005. 4.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6560" y="836640"/>
            <a:ext cx="8563320" cy="4824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057400" y="1890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1000-2100</a:t>
            </a:r>
            <a:r>
              <a:rPr b="0" lang="ko-KR" sz="32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년 기온 변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1827360"/>
            <a:ext cx="5446800" cy="380880"/>
          </a:xfrm>
          <a:prstGeom prst="plus">
            <a:avLst>
              <a:gd name="adj" fmla="val 20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관측이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54720" y="1827360"/>
            <a:ext cx="878040" cy="380880"/>
          </a:xfrm>
          <a:prstGeom prst="plus">
            <a:avLst>
              <a:gd name="adj" fmla="val 2038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관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19800" y="1827360"/>
            <a:ext cx="755640" cy="380880"/>
          </a:xfrm>
          <a:prstGeom prst="plus">
            <a:avLst>
              <a:gd name="adj" fmla="val 20389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전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640" y="5734080"/>
            <a:ext cx="8534520" cy="6728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ffffff"/>
                </a:solidFill>
                <a:latin typeface="굴림"/>
                <a:ea typeface="굴림"/>
              </a:rPr>
              <a:t>미래 기온변화에 대한 전망은 기후시스템에 대한 과학적 불확실성과 온실기체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  <a:ea typeface="굴림"/>
              </a:rPr>
              <a:t>/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  <a:ea typeface="굴림"/>
              </a:rPr>
              <a:t>에어러솔 배출 시나리오의 불확실성 등에 따라  아직도 확실하지 않다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  <a:ea typeface="굴림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0" t="0" r="13001" b="5829"/>
          <a:stretch/>
        </p:blipFill>
        <p:spPr>
          <a:xfrm>
            <a:off x="985680" y="2322360"/>
            <a:ext cx="3586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cbcbcb"/>
                </a:solidFill>
                <a:latin typeface="Times New Roman"/>
              </a:rPr>
              <a:t>3. </a:t>
            </a:r>
            <a:r>
              <a:rPr b="1" lang="ko-KR" sz="4000" spc="-1" strike="noStrike">
                <a:solidFill>
                  <a:srgbClr val="cbcbcb"/>
                </a:solidFill>
                <a:latin typeface="Times New Roman"/>
              </a:rPr>
              <a:t>기후변화 대응전략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799"/>
              </a:spcBef>
              <a:spcAft>
                <a:spcPts val="85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신명조"/>
                <a:ea typeface="신명조"/>
              </a:rPr>
              <a:t>대응전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601"/>
              </a:spcBef>
              <a:spcAft>
                <a:spcPts val="850"/>
              </a:spcAft>
              <a:buClr>
                <a:srgbClr val="ffffff"/>
              </a:buClr>
              <a:buFont typeface="신명조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신명조"/>
                <a:ea typeface="신명조"/>
              </a:rPr>
              <a:t>적응</a:t>
            </a:r>
            <a:r>
              <a:rPr b="1" lang="ko-KR" sz="2400" spc="-1" strike="noStrike">
                <a:solidFill>
                  <a:srgbClr val="ffffff"/>
                </a:solidFill>
                <a:latin typeface="신명조"/>
                <a:ea typeface="신명조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신명조"/>
                <a:ea typeface="신명조"/>
              </a:rPr>
              <a:t>Adapt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601"/>
              </a:spcBef>
              <a:spcAft>
                <a:spcPts val="850"/>
              </a:spcAft>
              <a:buClr>
                <a:srgbClr val="ffffff"/>
              </a:buClr>
              <a:buFont typeface="신명조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신명조"/>
                <a:ea typeface="신명조"/>
              </a:rPr>
              <a:t>완화</a:t>
            </a:r>
            <a:r>
              <a:rPr b="1" lang="ko-KR" sz="2400" spc="-1" strike="noStrike">
                <a:solidFill>
                  <a:srgbClr val="ffffff"/>
                </a:solidFill>
                <a:latin typeface="신명조"/>
                <a:ea typeface="신명조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신명조"/>
                <a:ea typeface="신명조"/>
              </a:rPr>
              <a:t>Mitig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799"/>
              </a:spcBef>
              <a:spcAft>
                <a:spcPts val="85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신명조"/>
                <a:ea typeface="신명조"/>
              </a:rPr>
              <a:t>Mitigation: IPCC</a:t>
            </a:r>
            <a:r>
              <a:rPr b="0" lang="ko-KR" sz="3200" spc="-1" strike="noStrike">
                <a:solidFill>
                  <a:srgbClr val="ffffff"/>
                </a:solidFill>
                <a:latin typeface="신명조"/>
                <a:ea typeface="신명조"/>
              </a:rPr>
              <a:t>의 정의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601"/>
              </a:spcBef>
              <a:spcAft>
                <a:spcPts val="850"/>
              </a:spcAft>
              <a:buClr>
                <a:srgbClr val="ffffff"/>
              </a:buClr>
              <a:buFont typeface="½Å¸íÁ¶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½Å¸íÁ¶"/>
                <a:ea typeface="신명조"/>
              </a:rPr>
              <a:t>온실가스 배출원 감축 및 흡수원 증진을 위한 노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601"/>
              </a:spcBef>
              <a:spcAft>
                <a:spcPts val="8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보다 적극적인 의미의 기후변화 대응전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601"/>
              </a:spcBef>
              <a:spcAft>
                <a:spcPts val="8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온실가스 배출은 경제활동과 밀접히 연관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Times New Roman"/>
              </a:rPr>
              <a:t>온실가스 배출 시나리오</a:t>
            </a:r>
            <a:r>
              <a:rPr b="0" lang="ko-KR" sz="4000" spc="-1" strike="noStrike">
                <a:solidFill>
                  <a:srgbClr val="cbcbcb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550"/>
              </a:spcBef>
              <a:spcAft>
                <a:spcPts val="85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CI Poppy"/>
                <a:ea typeface="신명조"/>
              </a:rPr>
              <a:t>IPCC: S</a:t>
            </a:r>
            <a:r>
              <a:rPr b="1" lang="en-US" sz="2200" spc="-1" strike="noStrike">
                <a:solidFill>
                  <a:srgbClr val="ffffff"/>
                </a:solidFill>
                <a:latin typeface="HCI Poppy"/>
                <a:ea typeface="휴먼명조"/>
              </a:rPr>
              <a:t>pecial Report on Emissions Scenarios"(SRES), 2000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spcAft>
                <a:spcPts val="85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CI Poppy"/>
                <a:ea typeface="휴먼명조"/>
              </a:rPr>
              <a:t>2100</a:t>
            </a:r>
            <a:r>
              <a:rPr b="1" lang="ko-KR" sz="2200" spc="-1" strike="noStrike">
                <a:solidFill>
                  <a:srgbClr val="ffffff"/>
                </a:solidFill>
                <a:latin typeface="휴먼명조"/>
                <a:ea typeface="휴먼명조"/>
              </a:rPr>
              <a:t>년까지 </a:t>
            </a:r>
            <a:r>
              <a:rPr b="1" lang="ko-KR" sz="2200" spc="-1" strike="noStrike">
                <a:solidFill>
                  <a:srgbClr val="ffffff"/>
                </a:solidFill>
                <a:latin typeface="HCI Poppy"/>
                <a:ea typeface="휴먼명조"/>
              </a:rPr>
              <a:t>6</a:t>
            </a:r>
            <a:r>
              <a:rPr b="1" lang="ko-KR" sz="2200" spc="-1" strike="noStrike">
                <a:solidFill>
                  <a:srgbClr val="ffffff"/>
                </a:solidFill>
                <a:latin typeface="휴먼명조"/>
                <a:ea typeface="휴먼명조"/>
              </a:rPr>
              <a:t>개의 기본 시나리오</a:t>
            </a:r>
            <a:r>
              <a:rPr b="1" lang="ko-KR" sz="2200" spc="-1" strike="noStrike">
                <a:solidFill>
                  <a:srgbClr val="ffffff"/>
                </a:solidFill>
                <a:latin typeface="휴먼명조"/>
                <a:ea typeface="휴먼명조"/>
              </a:rPr>
              <a:t>(</a:t>
            </a:r>
            <a:r>
              <a:rPr b="1" lang="ko-KR" sz="2200" spc="-1" strike="noStrike">
                <a:solidFill>
                  <a:srgbClr val="ffffff"/>
                </a:solidFill>
                <a:latin typeface="휴먼명조"/>
                <a:ea typeface="휴먼명조"/>
              </a:rPr>
              <a:t>총 </a:t>
            </a:r>
            <a:r>
              <a:rPr b="1" lang="ko-KR" sz="2200" spc="-1" strike="noStrike">
                <a:solidFill>
                  <a:srgbClr val="ffffff"/>
                </a:solidFill>
                <a:latin typeface="HCI Poppy"/>
                <a:ea typeface="휴먼명조"/>
              </a:rPr>
              <a:t>40</a:t>
            </a:r>
            <a:r>
              <a:rPr b="1" lang="ko-KR" sz="2200" spc="-1" strike="noStrike">
                <a:solidFill>
                  <a:srgbClr val="ffffff"/>
                </a:solidFill>
                <a:latin typeface="휴먼명조"/>
                <a:ea typeface="휴먼명조"/>
              </a:rPr>
              <a:t>개 시나리오</a:t>
            </a:r>
            <a:r>
              <a:rPr b="1" lang="ko-KR" sz="2200" spc="-1" strike="noStrike">
                <a:solidFill>
                  <a:srgbClr val="ffffff"/>
                </a:solidFill>
                <a:latin typeface="휴먼명조"/>
                <a:ea typeface="휴먼명조"/>
              </a:rPr>
              <a:t>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51"/>
              </a:spcBef>
              <a:spcAft>
                <a:spcPts val="850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A1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그룹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고성장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, 21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세기 중반 인구 최대후 감소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새로운 신기술의 도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374"/>
              </a:spcBef>
              <a:spcAft>
                <a:spcPts val="850"/>
              </a:spcAft>
              <a:buClr>
                <a:srgbClr val="00ffcc"/>
              </a:buClr>
              <a:buFont typeface="HCI Popp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HCI Poppy"/>
                <a:ea typeface="신명조"/>
              </a:rPr>
              <a:t>A1FI: </a:t>
            </a:r>
            <a:r>
              <a:rPr b="1" lang="ko-KR" sz="1500" spc="-1" strike="noStrike">
                <a:solidFill>
                  <a:srgbClr val="ffffff"/>
                </a:solidFill>
                <a:latin typeface="휴먼명조"/>
                <a:ea typeface="휴먼명조"/>
              </a:rPr>
              <a:t>화석연료 중심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374"/>
              </a:spcBef>
              <a:spcAft>
                <a:spcPts val="850"/>
              </a:spcAft>
              <a:buClr>
                <a:srgbClr val="00ffcc"/>
              </a:buClr>
              <a:buFont typeface="HCI Popp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HCI Poppy"/>
                <a:ea typeface="신명조"/>
              </a:rPr>
              <a:t>A1B: </a:t>
            </a:r>
            <a:r>
              <a:rPr b="1" lang="ko-KR" sz="1500" spc="-1" strike="noStrike">
                <a:solidFill>
                  <a:srgbClr val="ffffff"/>
                </a:solidFill>
                <a:latin typeface="휴먼명조"/>
                <a:ea typeface="휴먼명조"/>
              </a:rPr>
              <a:t>모든 에너지원의 균형적인 이용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374"/>
              </a:spcBef>
              <a:spcAft>
                <a:spcPts val="850"/>
              </a:spcAft>
              <a:buClr>
                <a:srgbClr val="00ffcc"/>
              </a:buClr>
              <a:buFont typeface="HCI Popp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HCI Poppy"/>
                <a:ea typeface="신명조"/>
              </a:rPr>
              <a:t>A1T: </a:t>
            </a:r>
            <a:r>
              <a:rPr b="1" lang="ko-KR" sz="1500" spc="-1" strike="noStrike">
                <a:solidFill>
                  <a:srgbClr val="ffffff"/>
                </a:solidFill>
                <a:latin typeface="휴먼명조"/>
                <a:ea typeface="휴먼명조"/>
              </a:rPr>
              <a:t>비화석연료 중심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51"/>
              </a:spcBef>
              <a:spcAft>
                <a:spcPts val="850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A2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그룹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지역중심의 경제발전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계속적인 인구증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51"/>
              </a:spcBef>
              <a:spcAft>
                <a:spcPts val="850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B1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그룹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: 21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세기 중반 인구 최대후 감소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서비스 및 </a:t>
            </a:r>
            <a:r>
              <a:rPr b="1" lang="en-US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IT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로 급속한 경제구조 전환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자원집약도 감소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청정기술 도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51"/>
              </a:spcBef>
              <a:spcAft>
                <a:spcPts val="850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B2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그룹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지역중심의 경제발전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계속적인 인구증가</a:t>
            </a:r>
            <a:r>
              <a:rPr b="1" lang="ko-KR" sz="18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휴먼명조"/>
                <a:ea typeface="휴먼명조"/>
              </a:rPr>
              <a:t>완만한 경제성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굴림"/>
              </a:rPr>
              <a:t>온실가스 배출 시나리오</a:t>
            </a:r>
            <a:r>
              <a:rPr b="0" lang="ko-KR" sz="4000" spc="-1" strike="noStrike">
                <a:solidFill>
                  <a:srgbClr val="cbcbcb"/>
                </a:solidFill>
                <a:latin typeface="굴림"/>
              </a:rPr>
              <a:t>(2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7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  <a:ea typeface="굴림"/>
              </a:rPr>
              <a:t>온실가스 배출 전망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  <a:ea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  <a:ea typeface="굴림"/>
              </a:rPr>
              <a:t>억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T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2666880"/>
          <a:ext cx="7696080" cy="35053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720"/>
                <a:gridCol w="1100160"/>
                <a:gridCol w="1098360"/>
                <a:gridCol w="1100160"/>
              </a:tblGrid>
              <a:tr h="70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  <a:ea typeface="굴림"/>
                        </a:rPr>
                        <a:t>연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1F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1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ko-KR" sz="4000" spc="-1" strike="noStrike">
                <a:solidFill>
                  <a:srgbClr val="cbcbcb"/>
                </a:solidFill>
                <a:latin typeface="굴림"/>
              </a:rPr>
              <a:t>온실가스 안정화 시나리오</a:t>
            </a:r>
            <a:r>
              <a:rPr b="0" lang="ko-KR" sz="4000" spc="-1" strike="noStrike">
                <a:solidFill>
                  <a:srgbClr val="0066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ko-KR" sz="4000" spc="-1" strike="noStrike">
                <a:solidFill>
                  <a:srgbClr val="cbcbcb"/>
                </a:solidFill>
                <a:latin typeface="굴림"/>
              </a:rPr>
              <a:t>온실가스 감축 </a:t>
            </a:r>
            <a:r>
              <a:rPr b="0" lang="en-US" sz="4000" spc="-1" strike="noStrike">
                <a:solidFill>
                  <a:srgbClr val="cbcbcb"/>
                </a:solidFill>
                <a:latin typeface="굴림"/>
              </a:rPr>
              <a:t>Option</a:t>
            </a: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75"/>
              </a:spcBef>
              <a:spcAft>
                <a:spcPts val="275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CI Poppy"/>
                <a:ea typeface="신명조"/>
              </a:rPr>
              <a:t>2010</a:t>
            </a:r>
            <a:r>
              <a:rPr b="1" lang="ko-KR" sz="2400" spc="-1" strike="noStrike">
                <a:solidFill>
                  <a:srgbClr val="ffffff"/>
                </a:solidFill>
                <a:latin typeface="휴먼명조"/>
                <a:ea typeface="휴먼명조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HCI Poppy"/>
                <a:ea typeface="휴먼명조"/>
              </a:rPr>
              <a:t>2020</a:t>
            </a:r>
            <a:r>
              <a:rPr b="1" lang="ko-KR" sz="2400" spc="-1" strike="noStrike">
                <a:solidFill>
                  <a:srgbClr val="ffffff"/>
                </a:solidFill>
                <a:latin typeface="휴먼명조"/>
                <a:ea typeface="휴먼명조"/>
              </a:rPr>
              <a:t>년 부문별 온실가스 감축 방안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Font typeface="휴먼명조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건물</a:t>
            </a: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수송</a:t>
            </a: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제조업 부문에서 전체 감축량의 절반 이상 저감 가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2020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년까지 저렴한 화석연료 중심의 에너지공급구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Font typeface="휴먼명조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그러나 천연가스 이용확대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에너지효율향상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복합화력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열병합 발전 확대 등으로 온실가스 감축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Font typeface="휴먼명조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동시에 저탄소 에너지 공급 확대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Biomass, LFG, 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재생에너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Font typeface="휴먼명조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농업부문</a:t>
            </a: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CH4</a:t>
            </a:r>
            <a:r>
              <a:rPr b="1" lang="en-US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및 </a:t>
            </a:r>
            <a:r>
              <a:rPr b="1" lang="en-US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N2O 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저감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HFC, PFC, SF6</a:t>
            </a:r>
            <a:r>
              <a:rPr b="1" lang="en-US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저감</a:t>
            </a: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공정개선</a:t>
            </a: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사용가스 회수</a:t>
            </a: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대체물질 사용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275"/>
              </a:spcBef>
              <a:spcAft>
                <a:spcPts val="275"/>
              </a:spcAft>
              <a:buClr>
                <a:srgbClr val="ffffff"/>
              </a:buClr>
              <a:buFont typeface="휴먼명조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명조"/>
                <a:ea typeface="휴먼명조"/>
              </a:rPr>
              <a:t>조림 등 흡수원 확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cbcbcb"/>
                </a:solidFill>
                <a:latin typeface="Times New Roman"/>
              </a:rPr>
              <a:t>4. </a:t>
            </a:r>
            <a:r>
              <a:rPr b="1" lang="ko-KR" sz="4000" spc="-1" strike="noStrike">
                <a:solidFill>
                  <a:srgbClr val="cbcbcb"/>
                </a:solidFill>
                <a:latin typeface="Times New Roman"/>
              </a:rPr>
              <a:t>기후변화협약과 협상과정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기후 협상과정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979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세계 기후프로그램 설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988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기후변화에 관한 정부간 패널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PCC)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설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990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2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월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총회에서 기후변화 문제를 다루기로 결의하고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협약문안 협상 시작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Rio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유엔환경개발회의에서 기후변화협약 채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994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월 기후변화협약 발효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우리나라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993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2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월 가입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995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온실가스 감축강화를 위한 의정서 협상 시작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977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2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월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교토의정서 채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2001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교토의정서 구체적인 이행방안 합의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마라케시 합의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2005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월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6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일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교토의정서 발효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한국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2003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1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월 비준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Times New Roman"/>
              </a:rPr>
              <a:t>기후변화협약의 주요 원칙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형평성의 원칙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: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공통의 차별적인 책임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각자의 능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선진국의 역사적 책임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선진국의 주도적 역할 강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기후변화 및 협약 이행의 효과에 대한 특별 고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기후변화에 취약한 국가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도서국가 등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예방의 원칙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: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과학적 규명이 불확실해도 사전 노력 촉구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각국의 지속가능 발전의 권리 인정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경제발전계획에 기후정책 통합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각국의 개방적인 경제정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기후정책을 이유로 일방적인 규제나 차별적 무역조치 금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Times New Roman"/>
              </a:rPr>
              <a:t>기후변화협약의 의무부담체계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98560" y="2709720"/>
            <a:ext cx="3506760" cy="3456000"/>
          </a:xfrm>
          <a:prstGeom prst="bevel">
            <a:avLst>
              <a:gd name="adj" fmla="val 311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 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협약의 모든 당사국이 부담하는 의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 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온실가스 배출감축전략 수립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, 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시행 및 공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 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온실가스 배출량 및 흡수량 국가통계와 정책이행에 관한 국가보고서 작성 및 당사국총회에 제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98560" y="1773360"/>
            <a:ext cx="3506760" cy="647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66cc"/>
                </a:solidFill>
                <a:latin typeface="HY신명조"/>
                <a:ea typeface="HY신명조"/>
              </a:rPr>
              <a:t>공 통 의 무 사 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37240" y="2709720"/>
            <a:ext cx="3506760" cy="3456000"/>
          </a:xfrm>
          <a:prstGeom prst="bevel">
            <a:avLst>
              <a:gd name="adj" fmla="val 311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 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부속서 Ⅰ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, 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부속서 Ⅱ 국가만이 부담하는 의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 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부속서 Ⅰ 국가는 온실가스배출량을 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1990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년 수준으로 감축하도록 노력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(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강제성 없음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 </a:t>
            </a:r>
            <a:r>
              <a:rPr b="1" lang="ko-KR" sz="1800" spc="-1" strike="noStrike">
                <a:solidFill>
                  <a:srgbClr val="0066cc"/>
                </a:solidFill>
                <a:latin typeface="HY신명조"/>
                <a:ea typeface="HY신명조"/>
              </a:rPr>
              <a:t>부속서 Ⅱ 국가는 개도국에 대한 재정지원 및 기술이전의 의무를 가짐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37240" y="1773360"/>
            <a:ext cx="3506760" cy="6476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66cc"/>
                </a:solidFill>
                <a:latin typeface="HY신명조"/>
                <a:ea typeface="HY신명조"/>
              </a:rPr>
              <a:t>특 정 의 무 사 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l"/>
    <p:sndAc>
      <p:stSnd>
        <p:snd r:embed="rId1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38080" y="709560"/>
            <a:ext cx="7010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77800" y="2133720"/>
            <a:ext cx="6205680" cy="3833280"/>
            <a:chOff x="577800" y="2133720"/>
            <a:chExt cx="6205680" cy="3833280"/>
          </a:xfrm>
        </p:grpSpPr>
        <p:sp>
          <p:nvSpPr>
            <p:cNvPr id="185" name="_s33798"/>
            <p:cNvSpPr/>
            <p:nvPr/>
          </p:nvSpPr>
          <p:spPr>
            <a:xfrm flipV="1">
              <a:off x="1076400" y="4723560"/>
              <a:ext cx="4051080" cy="1243080"/>
            </a:xfrm>
            <a:custGeom>
              <a:avLst/>
              <a:gdLst>
                <a:gd name="textAreaLeft" fmla="*/ 703080 w 4051080"/>
                <a:gd name="textAreaRight" fmla="*/ 3348000 w 4051080"/>
                <a:gd name="textAreaTop" fmla="*/ 215640 h 1243080"/>
                <a:gd name="textAreaBottom" fmla="*/ 1027440 h 124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HY목판L"/>
                  <a:ea typeface="HY목판L"/>
                </a:rPr>
                <a:t>환 경 협 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_s33799"/>
            <p:cNvSpPr/>
            <p:nvPr/>
          </p:nvSpPr>
          <p:spPr>
            <a:xfrm flipV="1">
              <a:off x="577800" y="3428280"/>
              <a:ext cx="2698920" cy="1243080"/>
            </a:xfrm>
            <a:custGeom>
              <a:avLst/>
              <a:gdLst>
                <a:gd name="textAreaLeft" fmla="*/ 593280 w 2698920"/>
                <a:gd name="textAreaRight" fmla="*/ 2105640 w 2698920"/>
                <a:gd name="textAreaTop" fmla="*/ 273240 h 1243080"/>
                <a:gd name="textAreaBottom" fmla="*/ 969840 h 124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HY목판L"/>
                  <a:ea typeface="HY목판L"/>
                </a:rPr>
                <a:t>경 제 협 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_s33800"/>
            <p:cNvSpPr/>
            <p:nvPr/>
          </p:nvSpPr>
          <p:spPr>
            <a:xfrm flipV="1">
              <a:off x="2612880" y="2133720"/>
              <a:ext cx="1349640" cy="1242720"/>
            </a:xfrm>
            <a:custGeom>
              <a:avLst/>
              <a:gdLst>
                <a:gd name="textAreaLeft" fmla="*/ 484200 w 1349640"/>
                <a:gd name="textAreaRight" fmla="*/ 865440 w 1349640"/>
                <a:gd name="textAreaTop" fmla="*/ 445680 h 1242720"/>
                <a:gd name="textAreaBottom" fmla="*/ 797040 h 12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HY목판L"/>
                  <a:ea typeface="HY목판L"/>
                </a:rPr>
                <a:t>기술협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89120" y="4508640"/>
              <a:ext cx="3294360" cy="144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335480" y="2263680"/>
            <a:ext cx="43513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ffcc"/>
                </a:solidFill>
                <a:latin typeface=""/>
                <a:ea typeface="휴먼모음T"/>
              </a:rPr>
              <a:t>온실가스관련 첨단기술</a:t>
            </a:r>
            <a:r>
              <a:rPr b="0" lang="ko-KR" sz="1600" spc="-1" strike="noStrike">
                <a:solidFill>
                  <a:srgbClr val="00ffcc"/>
                </a:solidFill>
                <a:latin typeface=""/>
                <a:ea typeface="휴먼모음T"/>
              </a:rPr>
              <a:t>(</a:t>
            </a:r>
            <a:r>
              <a:rPr b="0" lang="en-US" sz="1600" spc="-1" strike="noStrike">
                <a:solidFill>
                  <a:srgbClr val="00ffcc"/>
                </a:solidFill>
                <a:latin typeface=""/>
                <a:ea typeface="휴먼모음T"/>
              </a:rPr>
              <a:t>BAT)</a:t>
            </a:r>
            <a:r>
              <a:rPr b="0" lang="ko-KR" sz="1600" spc="-1" strike="noStrike">
                <a:solidFill>
                  <a:srgbClr val="00ffcc"/>
                </a:solidFill>
                <a:latin typeface=""/>
                <a:ea typeface="휴먼모음T"/>
              </a:rPr>
              <a:t>의 보유 여부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ffcc"/>
                </a:solidFill>
                <a:latin typeface=""/>
                <a:ea typeface="휴먼모음T"/>
              </a:rPr>
              <a:t>국가와 기업의 경쟁력 좌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5480" y="2924280"/>
            <a:ext cx="362268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84920" y="5661000"/>
            <a:ext cx="2260440" cy="0"/>
          </a:xfrm>
          <a:prstGeom prst="line">
            <a:avLst/>
          </a:prstGeom>
          <a:ln w="284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31200" y="4952880"/>
            <a:ext cx="2642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인류에 의해 발생된 온실가스 배출 안정화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지구온난화 등 기후변화문제 해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3284640"/>
            <a:ext cx="457200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d4d4d"/>
                </a:solidFill>
                <a:latin typeface="휴먼모음T"/>
                <a:ea typeface="휴먼모음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CO2 </a:t>
            </a: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감축 비용 발생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82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: </a:t>
            </a: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국가간</a:t>
            </a: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, </a:t>
            </a: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기업간 각 국가별 감축 비용의 차이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82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(</a:t>
            </a: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배출권거래 허용 시 감축비용 </a:t>
            </a: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530$-&gt; 270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ffcc"/>
                </a:solidFill>
                <a:latin typeface="휴먼모음T"/>
                <a:ea typeface="휴먼모음T"/>
              </a:rPr>
              <a:t>비규제적 무역장벽 형성 가능 내포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762120"/>
            <a:ext cx="58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Times New Roman"/>
                <a:ea typeface="굴림"/>
              </a:rPr>
              <a:t>기후변화협약의 의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cbcbcb"/>
                </a:solidFill>
                <a:latin typeface="Times New Roman"/>
              </a:rPr>
              <a:t>발표 순서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  <a:ea typeface="굴림"/>
              </a:rPr>
              <a:t>서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  <a:ea typeface="굴림"/>
              </a:rPr>
              <a:t>기후변화 현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  <a:ea typeface="굴림"/>
              </a:rPr>
              <a:t>기후변화 대응전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  <a:ea typeface="굴림"/>
              </a:rPr>
              <a:t>기후변화협약과 협상과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  <a:ea typeface="굴림"/>
              </a:rPr>
              <a:t>교토의정서와 협상동향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  <a:ea typeface="굴림"/>
              </a:rPr>
              <a:t>우리의 현황과 대응전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  <a:ea typeface="굴림"/>
              </a:rPr>
              <a:t>우리에 대한 시사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cbcbcb"/>
                </a:solidFill>
                <a:latin typeface="Times New Roman"/>
              </a:rPr>
              <a:t>5. </a:t>
            </a:r>
            <a:r>
              <a:rPr b="1" lang="ko-KR" sz="4000" spc="-1" strike="noStrike">
                <a:solidFill>
                  <a:srgbClr val="cbcbcb"/>
                </a:solidFill>
                <a:latin typeface="Times New Roman"/>
              </a:rPr>
              <a:t>교토의정서와 협상동향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채택 배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협약상의 감축의무만으로는 지구온난화 방지가 불충분함을 인식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(’95.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제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3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차 당사국총회에서 교토의정서 채택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(’97.1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선진국이 지구환경문제에 대한 국제사회의 여론 및 온실가스 배출에 대한 역사적인 책임문제로 온실가스 감축목표에 합의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주요 내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부속서 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38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개 국가의 감축목표 설정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- 2008~20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에 배출총량을 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90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대비 최소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5%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감축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유연성체제 허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교토메카니즘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공동이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  <a:ea typeface="굴림"/>
              </a:rPr>
              <a:t>JI)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청정개발체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  <a:ea typeface="굴림"/>
              </a:rPr>
              <a:t>CDM)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배출권거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  <a:ea typeface="굴림"/>
              </a:rPr>
              <a:t>E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cbcbcb"/>
                </a:solidFill>
                <a:latin typeface="굴림"/>
              </a:rPr>
              <a:t> </a:t>
            </a:r>
            <a:r>
              <a:rPr b="0" lang="ko-KR" sz="4000" spc="-1" strike="noStrike">
                <a:solidFill>
                  <a:srgbClr val="cbcbcb"/>
                </a:solidFill>
                <a:latin typeface="굴림"/>
              </a:rPr>
              <a:t>교토의정서 협상동향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9048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1995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년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향후 온실가스 감축 강화 합의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베를린 결의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년 부속서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국가의 구속력 있는 감축목표를 설정한 교토의정서 채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년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월 미국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의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 교토의정서 불참선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년 마라케시 합의에 따라 각국은 교토의정서 비준 절차 돌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년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월 경제성장과 연동된 감축목표 방안 제시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2003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년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11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  <a:ea typeface="굴림"/>
              </a:rPr>
              <a:t>월 한국 교토의정서 비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2004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년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월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일 러시아 비준 절차 진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년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월 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일  </a:t>
            </a:r>
            <a:r>
              <a:rPr b="1" lang="ko-KR" sz="2400" spc="-1" strike="noStrike">
                <a:solidFill>
                  <a:srgbClr val="ff9966"/>
                </a:solidFill>
                <a:latin typeface="Arial"/>
              </a:rPr>
              <a:t>의정서 발효</a:t>
            </a: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14360" y="1557360"/>
            <a:ext cx="8550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Times New Roman"/>
              </a:rPr>
              <a:t>교토의정서 발효와 의의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2781000"/>
            <a:ext cx="8839080" cy="33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새로운 변화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선진국의 온실가스감축 수단 본격 가동 시작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DM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등 온실가스감축 국제 협력사업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배출권거래 시장 활발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월평균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만톤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(’04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상반기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), 1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백만톤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(’04.9), 67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만톤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(’04.10.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 week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~10 US$/tCO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향후 일정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교토 체제 이후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(2013~1017)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개도국을 포함한  참여 방식 논의 본격화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년부터 협상 개시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cbcbcb"/>
                </a:solidFill>
                <a:latin typeface="Arial"/>
              </a:rPr>
              <a:t>선진국의 온실가스 </a:t>
            </a:r>
            <a:r>
              <a:rPr b="1" lang="ko-KR" sz="2000" spc="-1" strike="noStrike">
                <a:solidFill>
                  <a:srgbClr val="cbcbcb"/>
                </a:solidFill>
                <a:latin typeface="Arial"/>
                <a:ea typeface="굴림"/>
              </a:rPr>
              <a:t>감축</a:t>
            </a:r>
            <a:r>
              <a:rPr b="1" lang="ko-KR" sz="2000" spc="-1" strike="noStrike">
                <a:solidFill>
                  <a:srgbClr val="cbcbcb"/>
                </a:solidFill>
                <a:latin typeface="Arial"/>
              </a:rPr>
              <a:t>을 위한 노력에 대한 중간평가 실시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bcbcb"/>
                </a:solidFill>
                <a:latin typeface="Arial"/>
              </a:rPr>
              <a:t>2005</a:t>
            </a:r>
            <a:r>
              <a:rPr b="1" lang="ko-KR" sz="1800" spc="-1" strike="noStrike">
                <a:solidFill>
                  <a:srgbClr val="cbcbcb"/>
                </a:solidFill>
                <a:latin typeface="Arial"/>
              </a:rPr>
              <a:t>년 말까지의 선진국 노력을 </a:t>
            </a:r>
            <a:r>
              <a:rPr b="1" lang="ko-KR" sz="1800" spc="-1" strike="noStrike">
                <a:solidFill>
                  <a:srgbClr val="cbcbcb"/>
                </a:solidFill>
                <a:latin typeface="Arial"/>
              </a:rPr>
              <a:t>2006</a:t>
            </a:r>
            <a:r>
              <a:rPr b="1" lang="ko-KR" sz="1800" spc="-1" strike="noStrike">
                <a:solidFill>
                  <a:srgbClr val="cbcbcb"/>
                </a:solidFill>
                <a:latin typeface="Arial"/>
              </a:rPr>
              <a:t>년 제</a:t>
            </a:r>
            <a:r>
              <a:rPr b="1" lang="ko-KR" sz="1800" spc="-1" strike="noStrike">
                <a:solidFill>
                  <a:srgbClr val="cbcbcb"/>
                </a:solidFill>
                <a:latin typeface="Arial"/>
              </a:rPr>
              <a:t>4</a:t>
            </a:r>
            <a:r>
              <a:rPr b="1" lang="ko-KR" sz="1800" spc="-1" strike="noStrike">
                <a:solidFill>
                  <a:srgbClr val="cbcbcb"/>
                </a:solidFill>
                <a:latin typeface="Arial"/>
              </a:rPr>
              <a:t>차 국가보고서에 포함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bcbcb"/>
                </a:solidFill>
                <a:latin typeface="Arial"/>
              </a:rPr>
              <a:t>제</a:t>
            </a:r>
            <a:r>
              <a:rPr b="1" lang="ko-KR" sz="1800" spc="-1" strike="noStrike">
                <a:solidFill>
                  <a:srgbClr val="cbcbcb"/>
                </a:solidFill>
                <a:latin typeface="Arial"/>
              </a:rPr>
              <a:t>1</a:t>
            </a:r>
            <a:r>
              <a:rPr b="1" lang="ko-KR" sz="1800" spc="-1" strike="noStrike">
                <a:solidFill>
                  <a:srgbClr val="cbcbcb"/>
                </a:solidFill>
                <a:latin typeface="Arial"/>
              </a:rPr>
              <a:t>차 의무이행기간 진입 전 사전준비 점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72723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교토의정서 발효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2005.2.16 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발효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논의의 이동 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협약자체 </a:t>
            </a: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또는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불확실성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71640" y="2198160"/>
            <a:ext cx="5029200" cy="34920"/>
          </a:xfrm>
          <a:prstGeom prst="line">
            <a:avLst/>
          </a:prstGeom>
          <a:ln cap="rnd" w="2844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239220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50080" y="22906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99"/>
                </a:solidFill>
                <a:latin typeface="HY헤드라인M"/>
                <a:ea typeface="HY헤드라인M"/>
              </a:rPr>
              <a:t>이행 목표와 수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14120" y="1676520"/>
            <a:ext cx="8800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</a:rPr>
              <a:t>교토의정서의 장래에 관한 가능한 시나리오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돋움"/>
              </a:rPr>
              <a:t>○ </a:t>
            </a:r>
            <a:r>
              <a:rPr b="1" lang="ko-KR" sz="2000" spc="-1" strike="noStrike">
                <a:solidFill>
                  <a:srgbClr val="ffffff"/>
                </a:solidFill>
                <a:latin typeface="돋움"/>
              </a:rPr>
              <a:t>2005</a:t>
            </a:r>
            <a:r>
              <a:rPr b="1" lang="ko-KR" sz="2000" spc="-1" strike="noStrike">
                <a:solidFill>
                  <a:srgbClr val="ffffff"/>
                </a:solidFill>
                <a:latin typeface="돋움"/>
              </a:rPr>
              <a:t>년부터 </a:t>
            </a:r>
            <a:r>
              <a:rPr b="1" lang="ko-KR" sz="2000" spc="-1" strike="noStrike">
                <a:solidFill>
                  <a:srgbClr val="ffffff"/>
                </a:solidFill>
                <a:latin typeface="돋움"/>
              </a:rPr>
              <a:t>2</a:t>
            </a:r>
            <a:r>
              <a:rPr b="1" lang="ko-KR" sz="2000" spc="-1" strike="noStrike">
                <a:solidFill>
                  <a:srgbClr val="ffffff"/>
                </a:solidFill>
                <a:latin typeface="돋움"/>
              </a:rPr>
              <a:t>차 공약기간 의무부담 협상시작</a:t>
            </a:r>
            <a:r>
              <a:rPr b="1" lang="ko-KR" sz="20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돋움"/>
              </a:rPr>
              <a:t>의정서 </a:t>
            </a:r>
            <a:r>
              <a:rPr b="1" lang="ko-KR" sz="2000" spc="-1" strike="noStrike">
                <a:solidFill>
                  <a:srgbClr val="ffffff"/>
                </a:solidFill>
                <a:latin typeface="돋움"/>
              </a:rPr>
              <a:t>3.9</a:t>
            </a:r>
            <a:r>
              <a:rPr b="1" lang="ko-KR" sz="2000" spc="-1" strike="noStrike">
                <a:solidFill>
                  <a:srgbClr val="ffffff"/>
                </a:solidFill>
                <a:latin typeface="돋움"/>
              </a:rPr>
              <a:t>조</a:t>
            </a:r>
            <a:r>
              <a:rPr b="1" lang="ko-KR" sz="2000" spc="-1" strike="noStrike">
                <a:solidFill>
                  <a:srgbClr val="ffffff"/>
                </a:solidFill>
                <a:latin typeface="돋움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ko-KR" sz="1600" spc="-1" strike="noStrike">
                <a:solidFill>
                  <a:srgbClr val="99ff33"/>
                </a:solidFill>
                <a:latin typeface="Arial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제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차 공약기간 의무부담협상 단계에서 교토의정서  체제 붕괴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○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미국의 참여가 전제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○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미국 참여와 관련 과도한 수준의 전제조건을 제시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    ②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제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차 공약기간 협상에서 돌파구마련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 ○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미국의 의미있는 의무부담 수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 ○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최소한 일부 선발개도국의 양적 의무부담 수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굴림"/>
              </a:rPr>
              <a:t>교토의정서 체제의 전망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932360" y="2116080"/>
          <a:ext cx="3838680" cy="4056120"/>
        </p:xfrm>
        <a:graphic>
          <a:graphicData uri="http://schemas.openxmlformats.org/drawingml/2006/table">
            <a:tbl>
              <a:tblPr/>
              <a:tblGrid>
                <a:gridCol w="866880"/>
                <a:gridCol w="914400"/>
                <a:gridCol w="1218960"/>
                <a:gridCol w="838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단순증가율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/01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연평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증가율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산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,0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4.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수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4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9.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가정</a:t>
                      </a: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상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8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3.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공공</a:t>
                      </a: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기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4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전환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6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0.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탈루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4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5799240" y="1676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11111"/>
                </a:solidFill>
                <a:latin typeface="한양그래픽"/>
                <a:ea typeface="한양그래픽"/>
              </a:rPr>
              <a:t>&lt;</a:t>
            </a:r>
            <a:r>
              <a:rPr b="1" lang="ko-KR" sz="1800" spc="-1" strike="noStrike">
                <a:solidFill>
                  <a:srgbClr val="111111"/>
                </a:solidFill>
                <a:latin typeface="한양그래픽"/>
                <a:ea typeface="한양그래픽"/>
              </a:rPr>
              <a:t>에너지부문 배출량</a:t>
            </a:r>
            <a:r>
              <a:rPr b="1" lang="ko-KR" sz="1800" spc="-1" strike="noStrike">
                <a:solidFill>
                  <a:srgbClr val="111111"/>
                </a:solidFill>
                <a:latin typeface="한양그래픽"/>
                <a:ea typeface="한양그래픽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905120"/>
            <a:ext cx="441972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c1c1c"/>
                </a:solidFill>
                <a:latin typeface="한양그래픽"/>
                <a:ea typeface="한양그래픽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에너지부문 국가별 </a:t>
            </a:r>
            <a:r>
              <a:rPr b="1" lang="en-US" sz="18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CO2 </a:t>
            </a:r>
            <a:r>
              <a:rPr b="1" lang="ko-KR" sz="18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배출</a:t>
            </a:r>
            <a:r>
              <a:rPr b="1" lang="ko-KR" sz="18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(200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세계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9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위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배출비중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1.9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90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년 대비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92.7%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증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1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인당 온실가스 배출 세계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27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    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(9.48 </a:t>
            </a:r>
            <a:r>
              <a:rPr b="0" lang="en-US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T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한양그래픽"/>
                <a:ea typeface="한양그래픽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인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주요 증가 원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산업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납사 소비 증가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(390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       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석유화학 설비증설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수송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차량 증가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(280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전환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석탄화력 증가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(375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       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배출계수가 높은 유연탄 사용증가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8380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cbcbcb"/>
                </a:solidFill>
                <a:latin typeface="Times New Roman"/>
                <a:ea typeface="굴림"/>
              </a:rPr>
              <a:t>6. </a:t>
            </a:r>
            <a:r>
              <a:rPr b="1" lang="ko-KR" sz="4000" spc="-1" strike="noStrike">
                <a:solidFill>
                  <a:srgbClr val="cbcbcb"/>
                </a:solidFill>
                <a:latin typeface="Times New Roman"/>
                <a:ea typeface="굴림"/>
              </a:rPr>
              <a:t>우리의 현황 및 대응전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Times New Roman"/>
              </a:rPr>
              <a:t>대응전략 기본방향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국가 배출목표 관련 협상 대응체계 강화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협상기반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국내 경제 파급효과를 최소화하는 참여방안 마련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멕시코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브라질 등 유사한 상황의 국가들과 공동대응 추진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국가 배출감축 목표 달성을 위한 정책수단 재정비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감축기반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기술개발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배출통계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저감실적 등록사업 등 기반 강화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에너지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산업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건물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수송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환경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폐기물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농축산 등 부문별 감축 강화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조기행동 보상 접근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국내 배출권거래제 등 메커니즘 도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기후변화가 국민생활에 이치는 영향 평가 및 최소화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적응기반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기후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생태계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농림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축산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건강에 미치는 영향을 평가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정책도입 기반 마련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2120" y="9144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굴림"/>
                <a:ea typeface="굴림"/>
              </a:rPr>
              <a:t>협상 기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819520"/>
            <a:ext cx="7924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1c1c1c"/>
                </a:solidFill>
                <a:latin typeface="한양그래픽"/>
                <a:ea typeface="한양그래픽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국가 배출목표 관련 사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국내 목표설정 </a:t>
            </a:r>
            <a:r>
              <a:rPr b="0" lang="en-US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or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협상결과의 수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협상기반 구축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적정 온실가스 배출감축 참여방식 및 협상논리 개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협상에 대비한 국제 공조 강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경제적 파급효과가 최소화 되는 온실가스 감축 부담방안 마련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협상대응 체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외교통상부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주관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),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산업자원부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환경부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협조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및 국무조정실에서 대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981080"/>
            <a:ext cx="6400800" cy="5806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한양그래픽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00"/>
                </a:solidFill>
                <a:latin typeface="한양그래픽"/>
                <a:ea typeface="한양그래픽"/>
              </a:rPr>
              <a:t>온실가스 저배출형 경제구조 실형 등 본격 감축에 대비한 기반 구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한양그래픽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00"/>
                </a:solidFill>
                <a:latin typeface="한양그래픽"/>
                <a:ea typeface="한양그래픽"/>
              </a:rPr>
              <a:t>국민적 참여를 위한 교육</a:t>
            </a:r>
            <a:r>
              <a:rPr b="1" lang="ko-KR" sz="1600" spc="-1" strike="noStrike">
                <a:solidFill>
                  <a:srgbClr val="ffff00"/>
                </a:solidFill>
                <a:latin typeface="한양그래픽"/>
                <a:ea typeface="한양그래픽"/>
              </a:rPr>
              <a:t>, </a:t>
            </a:r>
            <a:r>
              <a:rPr b="1" lang="ko-KR" sz="1600" spc="-1" strike="noStrike">
                <a:solidFill>
                  <a:srgbClr val="ffff00"/>
                </a:solidFill>
                <a:latin typeface="한양그래픽"/>
                <a:ea typeface="한양그래픽"/>
              </a:rPr>
              <a:t>홍보 및 장기적 제도정비 방안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9144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굴림"/>
                <a:ea typeface="굴림"/>
              </a:rPr>
              <a:t>적응 기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66688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기후변화 현상의 모니터링 및 방재 기반 확충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한반도 대기 감시 및 온실가스 농도 측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한반도 기후변화 시나리오 개발 및 활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해수면 변화를 측정하고 대응 기반 마련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기후변화로 인한 자연재해 방지 기반 구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생태계 및 건강영향 평가 관련 연구 개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기후변화가 육상 및 해양 생태계에 미치는 영향 평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생태계변화 모니터링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진단지표 생물종 조사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기후변화가 농경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농업용수 및 작물생육에 미치는 영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기후변화에 따른 건강영향 평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030400"/>
            <a:ext cx="6019920" cy="5806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한양그래픽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00"/>
                </a:solidFill>
                <a:latin typeface="한양그래픽"/>
                <a:ea typeface="한양그래픽"/>
              </a:rPr>
              <a:t>기후변화에 의한 영향평가 및 최소화를 위한 대응방안 수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한양그래픽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00"/>
                </a:solidFill>
                <a:latin typeface="한양그래픽"/>
                <a:ea typeface="한양그래픽"/>
              </a:rPr>
              <a:t>부문별 현황 파악 및 적응조치 도입을 위한 기반구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91440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굴림"/>
                <a:ea typeface="굴림"/>
              </a:rPr>
              <a:t>감축 기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2971800"/>
            <a:ext cx="8426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에너지 부문의 효율향상</a:t>
            </a: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신재생에너지 보급</a:t>
            </a: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연료전환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감축 장재량 발굴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VA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및 </a:t>
            </a:r>
            <a:r>
              <a:rPr b="0" lang="en-US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ESCO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를 활용한 사업추진 및 감축실적 인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신재생에너지 적극 보급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청정연료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가스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)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확대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원자력 비중 유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에너지이용 효율 향상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고효율 기자재의 확대 및 보급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건축물 에너지 관리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전과정 관리에 의한 에너지절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수송부문 에너지 관리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교통수요관리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저공해차량 보급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환경</a:t>
            </a: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폐기물</a:t>
            </a: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1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농축산 부문 배출감축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하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폐수처리장 확충 및 쓰레기 자원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농경 및 축산기술 개발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보급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숲 확대 및 산림경영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산불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/</a:t>
            </a:r>
            <a:r>
              <a:rPr b="0" lang="ko-KR" sz="16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병충해 방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981080"/>
            <a:ext cx="6781680" cy="7333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- </a:t>
            </a:r>
            <a:r>
              <a:rPr b="1" lang="ko-KR" sz="14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온실가스 감축사업의 계량화를 통해 국제수준에 적합한 지표관리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- </a:t>
            </a:r>
            <a:r>
              <a:rPr b="1" lang="ko-KR" sz="14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사업별 배출량과 감축실적 계량화 방법론 개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- </a:t>
            </a:r>
            <a:r>
              <a:rPr b="1" lang="ko-KR" sz="1400" spc="-1" strike="noStrike">
                <a:solidFill>
                  <a:srgbClr val="ffffff"/>
                </a:solidFill>
                <a:latin typeface="한양그래픽"/>
                <a:ea typeface="한양그래픽"/>
              </a:rPr>
              <a:t>부문별 시범사업을 통한 제도정비 및 감축체계 개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ko-KR" sz="4400" spc="-1" strike="noStrike">
                <a:solidFill>
                  <a:srgbClr val="cbcbcb"/>
                </a:solidFill>
                <a:latin typeface="굴림"/>
              </a:rPr>
              <a:t>7. </a:t>
            </a:r>
            <a:r>
              <a:rPr b="1" lang="ko-KR" sz="4400" spc="-1" strike="noStrike">
                <a:solidFill>
                  <a:srgbClr val="cbcbcb"/>
                </a:solidFill>
                <a:latin typeface="굴림"/>
              </a:rPr>
              <a:t>우리에 대한 시사점</a:t>
            </a:r>
            <a:r>
              <a:rPr b="1" lang="ko-KR" sz="4400" spc="-1" strike="noStrike">
                <a:solidFill>
                  <a:srgbClr val="0066cc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명조"/>
                <a:ea typeface="휴먼명조"/>
              </a:rPr>
              <a:t>교토의정서 체제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국가적 의무부담은 없으나 국제교역상품은 국제환경기준 요구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CI Poppy"/>
                <a:ea typeface="휴먼명조"/>
              </a:rPr>
              <a:t>Post-Kyoto </a:t>
            </a:r>
            <a:r>
              <a:rPr b="1" lang="ko-KR" sz="2400" spc="-1" strike="noStrike">
                <a:solidFill>
                  <a:srgbClr val="ffffff"/>
                </a:solidFill>
                <a:latin typeface="HCI Poppy"/>
                <a:ea typeface="휴먼명조"/>
              </a:rPr>
              <a:t>체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감축의무부담 협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국내 정책 및 조치</a:t>
            </a: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국제 정책 및 조치와의 조화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85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CI Poppy"/>
                <a:ea typeface="휴먼명조"/>
              </a:rPr>
              <a:t>기후변화협약에 대한 민간의 참여 필요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기후변화 및 협약에 대한 국민의 이해 증진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기후변화 대응정책에 참여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HCI Popp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산업체</a:t>
            </a: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HCI Poppy"/>
                <a:ea typeface="휴먼명조"/>
              </a:rPr>
              <a:t>의무부담시 온실가스 감축 주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cbcbcb"/>
                </a:solidFill>
                <a:latin typeface="Times New Roman"/>
              </a:rPr>
              <a:t>1. </a:t>
            </a:r>
            <a:r>
              <a:rPr b="1" lang="ko-KR" sz="4000" spc="-1" strike="noStrike">
                <a:solidFill>
                  <a:srgbClr val="cbcbcb"/>
                </a:solidFill>
                <a:latin typeface="Times New Roman"/>
              </a:rPr>
              <a:t>서론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85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기후변화협약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UNFCC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신명조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지구 기후의 위험한 변화 방지 목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신명조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1992</a:t>
            </a:r>
            <a:r>
              <a:rPr b="1" lang="ko-KR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년 채택</a:t>
            </a:r>
            <a:r>
              <a:rPr b="1" lang="ko-KR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, 1994</a:t>
            </a:r>
            <a:r>
              <a:rPr b="1" lang="ko-KR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년 발효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신명조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선진 </a:t>
            </a:r>
            <a:r>
              <a:rPr b="1" lang="ko-KR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35</a:t>
            </a:r>
            <a:r>
              <a:rPr b="1" lang="ko-KR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개국</a:t>
            </a:r>
            <a:r>
              <a:rPr b="1" lang="ko-KR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(40</a:t>
            </a:r>
            <a:r>
              <a:rPr b="1" lang="ko-KR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개국</a:t>
            </a:r>
            <a:r>
              <a:rPr b="1" lang="ko-KR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) </a:t>
            </a:r>
            <a:r>
              <a:rPr b="1" lang="ko-KR" sz="2000" spc="-1" strike="noStrike">
                <a:solidFill>
                  <a:srgbClr val="ffffff"/>
                </a:solidFill>
                <a:latin typeface="신명조"/>
                <a:ea typeface="신명조"/>
              </a:rPr>
              <a:t>온실가스 배출 안정화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850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교토의정서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Kyoto Protoco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선진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38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개국 온실가스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5.2%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감축의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온실가스 국제적인 거래수단 교토메카니즘 도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1997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 채택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, 2005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년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월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26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일 발효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8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국제법적인 효력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한국은 온실가스 감축의무 없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click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4360" y="1557360"/>
            <a:ext cx="79945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00"/>
                </a:solidFill>
                <a:latin typeface="Times New Roman"/>
                <a:ea typeface="굴림"/>
              </a:rPr>
              <a:t>감 사 합 니 다 </a:t>
            </a:r>
            <a:r>
              <a:rPr b="1" lang="ko-KR" sz="4000" spc="-1" strike="noStrike">
                <a:solidFill>
                  <a:srgbClr val="ffff00"/>
                </a:solidFill>
                <a:latin typeface="Times New Roman"/>
                <a:ea typeface="굴림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2057400"/>
            <a:ext cx="7162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엽서M"/>
                <a:ea typeface="HY엽서M"/>
              </a:rPr>
              <a:t>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  <a:ea typeface="굴림"/>
              </a:rPr>
              <a:t>기후변화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  <a:ea typeface="굴림"/>
              </a:rPr>
              <a:t>(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  <a:ea typeface="굴림"/>
              </a:rPr>
              <a:t>또는 지구온난화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  <a:ea typeface="굴림"/>
              </a:rPr>
              <a:t>)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  <a:ea typeface="굴림"/>
              </a:rPr>
              <a:t>의 원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자연적인 원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   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태양 복사에너지의 변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   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지구 공전궤도의 변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밀란코비치이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  <a:ea typeface="굴림"/>
              </a:rPr>
              <a:t>-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화산활동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지각활동 등 자연변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   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기후시스템의 자연 변동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  <a:ea typeface="굴림"/>
              </a:rPr>
              <a:t>인위적인 원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   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온실가스와 에어러솔의 농도 증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   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-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삼림 파괴 및 환경변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cbcbcb"/>
                </a:solidFill>
                <a:latin typeface="Times New Roman"/>
                <a:ea typeface="굴림"/>
              </a:rPr>
              <a:t>2. </a:t>
            </a:r>
            <a:r>
              <a:rPr b="1" lang="ko-KR" sz="4000" spc="-1" strike="noStrike">
                <a:solidFill>
                  <a:srgbClr val="cbcbcb"/>
                </a:solidFill>
                <a:latin typeface="Times New Roman"/>
                <a:ea typeface="굴림"/>
              </a:rPr>
              <a:t>기후변화 현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2057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지구온난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276720"/>
            <a:ext cx="1981080" cy="19047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657240" y="3505320"/>
            <a:ext cx="1143000" cy="1600200"/>
            <a:chOff x="3657240" y="3505320"/>
            <a:chExt cx="1143000" cy="1600200"/>
          </a:xfrm>
        </p:grpSpPr>
        <p:sp>
          <p:nvSpPr>
            <p:cNvPr id="109" name=""/>
            <p:cNvSpPr/>
            <p:nvPr/>
          </p:nvSpPr>
          <p:spPr>
            <a:xfrm flipH="1">
              <a:off x="3657240" y="350532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657240" y="373392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657240" y="396252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657240" y="419112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657240" y="441972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657240" y="464832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657240" y="487692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657240" y="510552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85800" y="3124080"/>
            <a:ext cx="2438280" cy="2286000"/>
          </a:xfrm>
          <a:prstGeom prst="ellipse">
            <a:avLst/>
          </a:prstGeom>
          <a:solidFill>
            <a:srgbClr val="cc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80520" y="2819160"/>
            <a:ext cx="3048480" cy="2972160"/>
            <a:chOff x="380520" y="2819160"/>
            <a:chExt cx="3048480" cy="2972160"/>
          </a:xfrm>
        </p:grpSpPr>
        <p:sp>
          <p:nvSpPr>
            <p:cNvPr id="119" name=""/>
            <p:cNvSpPr/>
            <p:nvPr/>
          </p:nvSpPr>
          <p:spPr>
            <a:xfrm flipV="1">
              <a:off x="1905120" y="2819160"/>
              <a:ext cx="0" cy="3049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80520" y="4343400"/>
              <a:ext cx="3049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343400"/>
              <a:ext cx="3049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5120" y="5486400"/>
              <a:ext cx="0" cy="3049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80" y="5162400"/>
              <a:ext cx="239040" cy="1893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803520" y="3324240"/>
              <a:ext cx="221760" cy="2080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99640" y="5165280"/>
              <a:ext cx="242640" cy="1836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860560" y="3324240"/>
              <a:ext cx="222480" cy="2080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02920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66"/>
                </a:solidFill>
                <a:latin typeface="HY엽서M"/>
                <a:ea typeface="HY엽서M"/>
              </a:rPr>
              <a:t>- </a:t>
            </a:r>
            <a:r>
              <a:rPr b="0" lang="ko-KR" sz="2400" spc="-1" strike="noStrike">
                <a:solidFill>
                  <a:srgbClr val="ffff00"/>
                </a:solidFill>
                <a:latin typeface="HY엽서M"/>
                <a:ea typeface="HY엽서M"/>
              </a:rPr>
              <a:t>지구 표면의 평균 온도 </a:t>
            </a:r>
            <a:r>
              <a:rPr b="0" lang="ko-KR" sz="2400" spc="-1" strike="noStrike">
                <a:solidFill>
                  <a:srgbClr val="ffff00"/>
                </a:solidFill>
                <a:latin typeface="HY엽서M"/>
                <a:ea typeface="HY엽서M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1905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bcbcb"/>
                </a:solidFill>
                <a:latin typeface="HY엽서M"/>
                <a:ea typeface="HY엽서M"/>
              </a:rPr>
              <a:t>온실기체</a:t>
            </a:r>
            <a:r>
              <a:rPr b="0" lang="ko-KR" sz="2400" spc="-1" strike="noStrike">
                <a:solidFill>
                  <a:srgbClr val="cbcbcb"/>
                </a:solidFill>
                <a:latin typeface="HY엽서M"/>
                <a:ea typeface="HY엽서M"/>
              </a:rPr>
              <a:t>: </a:t>
            </a:r>
            <a:r>
              <a:rPr b="0" lang="ko-KR" sz="2400" spc="-1" strike="noStrike">
                <a:solidFill>
                  <a:srgbClr val="cbcbcb"/>
                </a:solidFill>
                <a:latin typeface="HY엽서M"/>
                <a:ea typeface="HY엽서M"/>
              </a:rPr>
              <a:t>이산화탄소</a:t>
            </a:r>
            <a:r>
              <a:rPr b="0" lang="ko-KR" sz="2400" spc="-1" strike="noStrike">
                <a:solidFill>
                  <a:srgbClr val="cbcbcb"/>
                </a:solidFill>
                <a:latin typeface="HY엽서M"/>
                <a:ea typeface="HY엽서M"/>
              </a:rPr>
              <a:t>, </a:t>
            </a:r>
            <a:r>
              <a:rPr b="0" lang="ko-KR" sz="2400" spc="-1" strike="noStrike">
                <a:solidFill>
                  <a:srgbClr val="cbcbcb"/>
                </a:solidFill>
                <a:latin typeface="HY엽서M"/>
                <a:ea typeface="HY엽서M"/>
              </a:rPr>
              <a:t>메탄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1240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d4d4d"/>
                </a:solidFill>
                <a:latin typeface="HY엽서M"/>
                <a:ea typeface="HY엽서M"/>
              </a:rPr>
              <a:t>◆ 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대기가 없을 경우 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(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온실기체</a:t>
            </a:r>
            <a:br>
              <a:rPr sz="2000"/>
            </a:b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    가 없을 경우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) : -18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40384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d4d4d"/>
                </a:solidFill>
                <a:latin typeface="HY엽서M"/>
                <a:ea typeface="HY엽서M"/>
              </a:rPr>
              <a:t>◆ 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현재의 대기 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(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현재 온실기체</a:t>
            </a:r>
            <a:br>
              <a:rPr sz="2000"/>
            </a:b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    농도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) : 15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48769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d4d4d"/>
                </a:solidFill>
                <a:latin typeface="HY엽서M"/>
                <a:ea typeface="HY엽서M"/>
              </a:rPr>
              <a:t>◆ 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미래의 대기 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(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미래 온실기체</a:t>
            </a:r>
            <a:br>
              <a:rPr sz="2000"/>
            </a:b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    농도 </a:t>
            </a:r>
            <a:r>
              <a:rPr b="0" lang="ko-KR" sz="2000" spc="-1" strike="noStrike">
                <a:solidFill>
                  <a:srgbClr val="00ffcc"/>
                </a:solidFill>
                <a:latin typeface="HY엽서M"/>
                <a:ea typeface="HY엽서M"/>
              </a:rPr>
              <a:t>?) :  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124080"/>
            <a:ext cx="2438280" cy="2286000"/>
          </a:xfrm>
          <a:prstGeom prst="ellipse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Times New Roman"/>
                <a:ea typeface="굴림"/>
              </a:rPr>
              <a:t>지구온난화 현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304920" y="2362320"/>
            <a:ext cx="5079960" cy="4345920"/>
            <a:chOff x="304920" y="2362320"/>
            <a:chExt cx="5079960" cy="43459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5079960" cy="39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8960" y="6248520"/>
              <a:ext cx="11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굴림"/>
                  <a:ea typeface="굴림"/>
                </a:rPr>
                <a:t>1850</a:t>
              </a:r>
              <a:r>
                <a:rPr b="0" lang="ko-KR" sz="2400" spc="-1" strike="noStrike">
                  <a:solidFill>
                    <a:srgbClr val="ffffff"/>
                  </a:solidFill>
                  <a:latin typeface="굴림"/>
                  <a:ea typeface="굴림"/>
                </a:rPr>
                <a:t>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962520" y="609480"/>
            <a:ext cx="5014800" cy="4290480"/>
            <a:chOff x="3962520" y="609480"/>
            <a:chExt cx="5014800" cy="429048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3962520" y="609480"/>
              <a:ext cx="5014800" cy="38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784280" y="4440240"/>
              <a:ext cx="11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굴림"/>
                  <a:ea typeface="굴림"/>
                </a:rPr>
                <a:t>1966</a:t>
              </a:r>
              <a:r>
                <a:rPr b="0" lang="ko-KR" sz="2400" spc="-1" strike="noStrike">
                  <a:solidFill>
                    <a:srgbClr val="ffffff"/>
                  </a:solidFill>
                  <a:latin typeface="굴림"/>
                  <a:ea typeface="굴림"/>
                </a:rPr>
                <a:t>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28600" y="7621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빙하의 퇴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98600" y="83808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(한)문화방송"/>
                <a:ea typeface="(한)문화방송"/>
              </a:rPr>
              <a:t>옛날에 한강에선…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459320" y="1981080"/>
          <a:ext cx="4255920" cy="42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1981080"/>
                    <a:ext cx="425592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33520" y="1757520"/>
          <a:ext cx="451152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757520"/>
                    <a:ext cx="45115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71800" y="2286000"/>
            <a:ext cx="310680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엽서M"/>
                <a:ea typeface="HY엽서M"/>
              </a:rPr>
              <a:t>온실가스의 증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엽서M"/>
                <a:ea typeface="HY엽서M"/>
              </a:rPr>
              <a:t>에어러솔의 증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엽서M"/>
                <a:ea typeface="HY엽서M"/>
              </a:rPr>
              <a:t>오존충의 약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엽서M"/>
                <a:ea typeface="HY엽서M"/>
              </a:rPr>
              <a:t>삼림 파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엽서M"/>
                <a:ea typeface="HY엽서M"/>
              </a:rPr>
              <a:t>환경 변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엽서M"/>
                <a:ea typeface="HY엽서M"/>
              </a:rPr>
              <a:t>…</a:t>
            </a:r>
            <a:r>
              <a:rPr b="1" lang="ko-KR" sz="3200" spc="-1" strike="noStrike">
                <a:solidFill>
                  <a:srgbClr val="ffffff"/>
                </a:solidFill>
                <a:latin typeface="HY엽서M"/>
                <a:ea typeface="HY엽서M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Times New Roman"/>
                <a:ea typeface="굴림"/>
              </a:rPr>
              <a:t>인위적인 기후변화의 원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1987560"/>
            <a:ext cx="795492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HY신명조"/>
                <a:ea typeface="HY신명조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       C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HY신명조"/>
                <a:ea typeface="HY신명조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 N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HY신명조"/>
                <a:ea typeface="HY신명조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  PFCs,HFCs,SF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HY신명조"/>
                <a:ea typeface="HY신명조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배  출  원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에너지사용    폐기물     산업공정          냉매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                    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산업공정     농업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축산    비료사용        세척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지구온난화             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1       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21            310     1,300∼23,9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지수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HY신명조"/>
                <a:ea typeface="HY신명조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=1)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온난화기여도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   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55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15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     6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   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(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국내  총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86.6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6.8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    2.7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  3.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배출량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(%)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* </a:t>
            </a:r>
            <a:r>
              <a:rPr b="1" lang="ko-KR" sz="1600" spc="-1" strike="noStrike">
                <a:solidFill>
                  <a:srgbClr val="ffffff"/>
                </a:solidFill>
                <a:latin typeface="HY신명조"/>
                <a:ea typeface="HY신명조"/>
              </a:rPr>
              <a:t>에너지경제연구원</a:t>
            </a:r>
            <a:r>
              <a:rPr b="1" lang="ko-KR" sz="1600" spc="-1" strike="noStrike">
                <a:solidFill>
                  <a:srgbClr val="ffffff"/>
                </a:solidFill>
                <a:latin typeface="HY신명조"/>
                <a:ea typeface="HY신명조"/>
              </a:rPr>
              <a:t>, 2002</a:t>
            </a:r>
            <a:r>
              <a:rPr b="1" lang="ko-KR" sz="2000" spc="-1" strike="noStrike">
                <a:solidFill>
                  <a:srgbClr val="ffffff"/>
                </a:solidFill>
                <a:latin typeface="HY신명조"/>
                <a:ea typeface="HY신명조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685800"/>
            <a:ext cx="71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cbcbcb"/>
                </a:solidFill>
                <a:latin typeface="Times New Roman"/>
                <a:ea typeface="굴림"/>
              </a:rPr>
              <a:t>온실가스의 종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280" y="2492280"/>
            <a:ext cx="770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7480" y="1916280"/>
            <a:ext cx="770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7480" y="3427560"/>
            <a:ext cx="770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7480" y="4219560"/>
            <a:ext cx="770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7480" y="4940280"/>
            <a:ext cx="770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7480" y="5732640"/>
            <a:ext cx="770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l"/>
    <p:sndAc>
      <p:stSnd>
        <p:snd r:embed="rId1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00:39:46Z</dcterms:created>
  <dc:creator>KPU</dc:creator>
  <dc:description/>
  <dc:language>en-US</dc:language>
  <cp:lastModifiedBy>강승진</cp:lastModifiedBy>
  <dcterms:modified xsi:type="dcterms:W3CDTF">2005-04-06T12:46:11Z</dcterms:modified>
  <cp:revision>352</cp:revision>
  <dc:subject/>
  <dc:title>Presentation</dc:title>
</cp:coreProperties>
</file>